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6088-78EC-41A1-8ABD-5731EF44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3BE8-4EDF-4123-B1F5-ACB44AD0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136DF-899E-4C08-B2AB-887F92C0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812A0-7044-407B-B4FA-DCC5B248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E1099-2D5F-45A3-8ECA-97B172FA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E8E54-6DAB-4FAF-AF72-591C4729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13D06-BDEE-49FF-937A-22E78303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1A35E-2557-4B96-AFD9-499F9E88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5B902-3E04-442B-B559-427505F6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9D565-9695-4DBB-B7A2-9BCAB0BE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66258-D558-49A9-BB73-47470C91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4CDE-BE30-4A59-9E30-3387A1BF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75F1-AC27-4ABE-B626-B0DCF611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EBE5-0C87-4A18-B1CF-FD291738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A647-DAC9-451F-91EA-E154242A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E082-C6C9-41A7-AC9D-5BC535B0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F071-47AA-409B-A133-8FD60123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17D4-9715-40B2-98BA-25F61134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2ED2-AF3F-42AA-8C6F-287B51E2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8E6B-4137-4C3F-AC1B-6A0BACBC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A654-D37E-41C3-9B96-C3F0A41A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58D1-565F-47C3-937E-9E85D13D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E1C6-A73E-4CD7-89A5-03DE7354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5DA2-29ED-4460-B8C1-5952CB75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0F9E-6F6F-4F6F-84C2-78F36758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DB56-C262-48C9-A7C1-BFA31182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4ABCA-3D7B-4C67-8C91-6D1FADFB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C6C7C-0701-40D5-BDE8-0BC122C8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0BE19-06C7-43B2-BEF5-2A921E01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B7034-40CF-49EE-8604-66DED922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8CB36-2EFC-4235-A091-CFD04625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B25A-BACD-4C9F-8D4B-997FECA8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3391F-5205-4B43-B1B3-00B8978D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A2176-0A39-4853-9B85-94629851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A53F7-B866-417F-AC2A-4C9D4A12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E0B53-B10D-4ADC-9AAF-DDCDFFD5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0ECD8-557E-47FC-9C87-F4CF193C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EF8A2-99DE-460B-9EFC-CDB3AB05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BA281-F33C-440F-971C-AC224781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559E6-95E5-4CA9-ADB1-901BB5A5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28038-24C8-4B5A-8D93-BF5AA260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90FB7-A4A3-42C6-892A-3A65EA20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DE4-134D-4C71-B219-D689AF88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B7C9A-3BE6-485B-9296-00A4F710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B5D50-BBB2-4F49-A74F-5A80DFB7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02E6F-8FDA-4D9E-8BD1-7E0792CA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441F0-189C-48F3-BEDC-1B9EF08C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CA324-1A72-4C79-A038-F2C57209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90B7C-32EF-4DD6-A4A0-1378B322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294A4-8033-464E-B8B2-42128965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8A940-E548-445B-A907-9A3EFFD5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65247-0D6A-43F7-8B3B-7C7B091C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6B32F-631E-4BA7-B2C5-E1326E69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AD4C-1FD6-4A8E-AA44-21778C2F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619FD-29A3-4B64-BC90-8D3B9FB3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36E6A-C15E-40A7-9D1F-5EF8976F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20A68-E599-4CC8-8D83-8267CA1B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C786E-B44A-400D-BE13-8683AB5A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A1672-80D3-4166-B614-7E368683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12684-0E2A-4E28-BA92-67AD5095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D7544-EE5E-4F8E-AE32-24EC47B9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2A5F7-8561-4DF3-AE0A-B7336AF8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4FF80-662E-4F6E-98AD-8D66E489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F3DB0-E350-4FA0-A5F5-A0E82128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4130-068A-487E-9507-3E9541E1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8FFA6-71C5-4947-917C-E5304D23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33791-4ED7-49D0-9DCF-41AA9734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105A6-0D71-4658-B7B5-C314190B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7A2A1-E191-4067-97BF-05AA7AE4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54796-B8C6-4865-8934-1E906647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170D3-2FC9-4044-B1AF-6110C431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138D2-2828-47FB-8042-7158D2A5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443B6-3EE0-4C15-8016-64E89FED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A76A6-DA51-46FF-B8D5-BAC8D2A9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5C4BF-FFD6-4F77-A424-63E252A6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296-4957-4A8D-A385-0980955A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44D02-30C7-4CAC-BB2C-06690F58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2E02A-E005-407C-8884-2F3E10BB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69CC7-A94E-474D-85E3-D1B723C7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CD126-E392-4191-88AF-EEA9E1A7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7E424-44C0-4C23-B448-D40A05D6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223C0-8A5E-4B91-8081-F81ADB94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9DB6D-2BE8-4B74-A73C-0F118F7B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63BDE-D011-41C6-B4DF-3E2BDBBB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9CA6A-39B6-49A5-98D8-83C5DD4F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8FE08-171B-4BBD-B212-6AA64ECE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428-D2AE-46A0-8298-9C450349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469E1-AAB1-4AF1-A1F4-292E575D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4DFFB-1162-403F-9812-7D2F3A50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E47A9-5743-4BA9-ABF9-CB602348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1FD3F-6F8F-4FA2-89F0-530C1C67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AC164-D669-403B-A29E-89745770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CD393-8809-4409-90BA-31884BEF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82B05-6C64-478E-A23B-59D07DD2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82D75-1ADA-4BCB-83FF-2433BCCD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B0592-2019-4E3F-B3AB-2C1F0573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95036-E326-4423-82B2-2B95D6C8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C9C-51A8-40F1-A90B-28C54C57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2E7A1-9CC3-4687-B235-FB774A19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5A799-FF0F-4F5F-A68C-E4E9AD3F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D8A9D-40CE-4BA6-ADF6-9FEAECF3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FEFDE-4337-4322-9A07-BACD8B35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27662-6F20-418F-9053-D47A4CEE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83466-F92C-48A1-8CF3-F5E1299B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41EBA-EE48-48D5-A027-F77938E8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71952-A881-4706-B9B8-E0C98F16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D681D-07FF-472F-A76F-305F3F44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EE50D-734C-4FB9-8BAC-8A2393EE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832E2-F4D3-4EA8-A59D-049F059F5D8B}" type="datetime">
              <a:rPr b="1" lang="en-US" sz="1100" spc="-1" strike="noStrike">
                <a:solidFill>
                  <a:srgbClr val="7f7f7f"/>
                </a:solidFill>
                <a:latin typeface="Calisto MT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844B19-D7A2-44CF-BD4C-97F583DEA65C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E449C-80C1-4D8F-9EE8-90E410B2F99D}" type="datetime">
              <a:rPr b="1" lang="en-US" sz="1100" spc="-1" strike="noStrike">
                <a:solidFill>
                  <a:srgbClr val="7f7f7f"/>
                </a:solidFill>
                <a:latin typeface="Calisto MT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3C97A-BF20-4562-9877-548D6573BA56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7546C3-2622-4F18-9FEE-23D9B866FE91}" type="datetime">
              <a:rPr b="1" lang="en-US" sz="1100" spc="-1" strike="noStrike">
                <a:solidFill>
                  <a:srgbClr val="ffffff"/>
                </a:solidFill>
                <a:latin typeface="Calisto MT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A48D1-D0C8-4D07-8F34-6EFE1470A613}" type="slidenum">
              <a:rPr b="1" lang="en-US" sz="11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07E142-9473-4E7B-8877-AC7280EDA733}" type="datetime">
              <a:rPr b="1" lang="en-US" sz="1100" spc="-1" strike="noStrike">
                <a:solidFill>
                  <a:srgbClr val="7f7f7f"/>
                </a:solidFill>
                <a:latin typeface="Calisto MT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F2E79-6643-4267-949D-A0F5E64B3548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EF704-4DD9-49C6-8311-38CF549CB74F}" type="datetime">
              <a:rPr b="1" lang="en-US" sz="1100" spc="-1" strike="noStrike">
                <a:solidFill>
                  <a:srgbClr val="ffffff"/>
                </a:solidFill>
                <a:latin typeface="Calisto MT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59698D-7077-4919-8A4F-121EBBFB57DC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BE7BF-7D4F-4336-8069-7A4CDAB865A6}" type="datetime">
              <a:rPr b="1" lang="en-US" sz="1100" spc="-1" strike="noStrike">
                <a:solidFill>
                  <a:srgbClr val="ffffff"/>
                </a:solidFill>
                <a:latin typeface="Calisto MT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BC7DE-F497-4DC7-BBD0-AE33782FE366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E2F0F6-093D-4655-B974-6C3245510367}" type="datetime">
              <a:rPr b="1" lang="en-US" sz="1100" spc="-1" strike="noStrike">
                <a:solidFill>
                  <a:srgbClr val="ffffff"/>
                </a:solidFill>
                <a:latin typeface="Calisto MT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D7DD7-E93C-449C-831D-C62683C8E614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DDD0F-93FA-4D2A-917C-4E88268CC502}" type="datetime">
              <a:rPr b="1" lang="en-US" sz="1100" spc="-1" strike="noStrike">
                <a:solidFill>
                  <a:srgbClr val="7f7f7f"/>
                </a:solidFill>
                <a:latin typeface="Calisto MT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66736-4EA1-48A5-9A9B-16A69362CB42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66F0C-7333-4B55-803E-2336164C9369}" type="datetime">
              <a:rPr b="1" lang="en-US" sz="1100" spc="-1" strike="noStrike">
                <a:solidFill>
                  <a:srgbClr val="7f7f7f"/>
                </a:solidFill>
                <a:latin typeface="Calisto MT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4D573-1866-4730-91C3-78F9F6A45CD8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ltedworld.com/Melted_English/view_video.php?viewkey=2936a96d3c8bd1f8f2ff&amp;category=rd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193"/>
                </a:solidFill>
                <a:latin typeface="Calisto MT"/>
              </a:rPr>
              <a:t>Earth Week 2009</a:t>
            </a:r>
            <a:endParaRPr b="0" lang="en-US" sz="6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e Climate Crisis: A Focus on Energy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bd7f8"/>
                </a:solidFill>
                <a:latin typeface="Calisto MT"/>
              </a:rPr>
              <a:t>Mr. Weaver</a:t>
            </a:r>
            <a:endParaRPr b="0" lang="en-US" sz="3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193"/>
                </a:solidFill>
                <a:latin typeface="Calisto MT"/>
              </a:rPr>
              <a:t>Closure</a:t>
            </a:r>
            <a:endParaRPr b="0" lang="en-US" sz="4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739800" y="282852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n your own words, explain “the greenhouse effect”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escribe how human activity has unnaturally altered this process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ite evidence supporting the theory that human activity significantly contributes to global warming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Assess the validity of this evidenc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193"/>
                </a:solidFill>
                <a:latin typeface="Calisto MT"/>
              </a:rPr>
              <a:t>Closure </a:t>
            </a:r>
            <a:r>
              <a:rPr b="1" lang="en-US" sz="3000" spc="-1" strike="noStrike">
                <a:solidFill>
                  <a:srgbClr val="fff193"/>
                </a:solidFill>
                <a:latin typeface="Calisto MT"/>
              </a:rPr>
              <a:t>(Slide 2)</a:t>
            </a:r>
            <a:endParaRPr b="0" lang="en-US" sz="3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2769840"/>
            <a:ext cx="822960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Describe how the planet will change if global warming continues to accelerate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nsequences on living beings?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nalyze your lifestyle and identify a few changes you would make to decrease your energy consumption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ow would the planet benefit if everyone made these changes?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193"/>
                </a:solidFill>
                <a:latin typeface="Calisto MT"/>
              </a:rPr>
              <a:t>Tonight’s Assignmen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r homework, please collect the following information from your parents: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Approximate size of your home (in square feet)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Type of energy you use to heat your hous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nergy saving features in house (Energy Star appliances, storm windows, insulation, water saving features, etc.)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Miles traveled in a year by car, bus, train, plan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Where your family gets groceries and whether they buy organic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193"/>
                </a:solidFill>
                <a:latin typeface="Calisto MT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18920" y="2362320"/>
            <a:ext cx="76626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The student will be able to: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312120" indent="-312120">
              <a:spcBef>
                <a:spcPts val="1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plain the phenomenon of “the greenhouse effect” and describe how human activity has unnaturally altered this process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12120" indent="-312120">
              <a:spcBef>
                <a:spcPts val="1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ite evidence supporting the theory that human activity significantly contributes to global warming and analyze the validity of this evidence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12120" indent="-312120">
              <a:spcBef>
                <a:spcPts val="1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escribe how global warming is changing the planet and explain the disastrous consequences of not halting the process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12120" indent="-312120">
              <a:spcBef>
                <a:spcPts val="1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Analyze his/her lifestyle and create a plan for reducing his/her energy consumption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193"/>
                </a:solidFill>
                <a:latin typeface="Calisto MT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sto MT"/>
              </a:rPr>
              <a:t>1.</a:t>
            </a:r>
            <a:r>
              <a:rPr b="0" lang="en-US" sz="2400" spc="-1" strike="noStrike">
                <a:solidFill>
                  <a:srgbClr val="008000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Global Warming Pre-Tes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sto MT"/>
              </a:rPr>
              <a:t>2.</a:t>
            </a:r>
            <a:r>
              <a:rPr b="0" lang="en-US" sz="2400" spc="-1" strike="noStrike">
                <a:solidFill>
                  <a:srgbClr val="008000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Warm-up Activity – considering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your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impac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sto MT"/>
              </a:rPr>
              <a:t>3.</a:t>
            </a:r>
            <a:r>
              <a:rPr b="0" lang="en-US" sz="2400" spc="-1" strike="noStrike">
                <a:solidFill>
                  <a:srgbClr val="008000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“Global Warming 101” video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sto MT"/>
              </a:rPr>
              <a:t>4.</a:t>
            </a:r>
            <a:r>
              <a:rPr b="0" lang="en-US" sz="2400" spc="-1" strike="noStrike">
                <a:solidFill>
                  <a:srgbClr val="008000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osur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sto MT"/>
              </a:rPr>
              <a:t>5.</a:t>
            </a:r>
            <a:r>
              <a:rPr b="0" lang="en-US" sz="2400" spc="-1" strike="noStrike">
                <a:solidFill>
                  <a:srgbClr val="008000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Begin homework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193"/>
                </a:solidFill>
                <a:latin typeface="Calisto MT"/>
              </a:rPr>
              <a:t>Before We Begin…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lease complete the Earth Week Pre-Tes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Just go with your first thought for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ach question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o not spend more than a few seconds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n any one question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When you are finished, please tur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your paper ove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6172200" y="2971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193"/>
                </a:solidFill>
                <a:latin typeface="Calisto MT"/>
              </a:rPr>
              <a:t>Hand in Your Pre-Test</a:t>
            </a:r>
            <a:endParaRPr b="0" lang="en-US" sz="4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roughout the unit, we will address each topic covered on this pre-test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llow the unit notes/outline as we encounter each topic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3200400" y="4316400"/>
            <a:ext cx="335124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193"/>
                </a:solidFill>
                <a:latin typeface="Calisto MT"/>
              </a:rPr>
              <a:t>Close Your Eyes…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ose your eyes and think about your daily routines, about how you live your life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Breathing, eating, driving/taking the bus to school, listening to your iPod, doing school work, reading books, etc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Your possession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hoes, clothes, car, computer, bed, cell phone, jewelry, etc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193"/>
                </a:solidFill>
                <a:latin typeface="Calisto MT"/>
              </a:rPr>
              <a:t>Have You Ever Considered…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Have you ever considered what natura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resources you consume on a daily basis?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What materials do you take from th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arth just to survive?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How does your very existence impact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the environment?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2"/>
          <a:stretch/>
        </p:blipFill>
        <p:spPr>
          <a:xfrm>
            <a:off x="6324480" y="2362320"/>
            <a:ext cx="2743200" cy="1981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"/>
          <p:cNvPicPr/>
          <p:nvPr/>
        </p:nvPicPr>
        <p:blipFill>
          <a:blip r:embed="rId3"/>
          <a:stretch/>
        </p:blipFill>
        <p:spPr>
          <a:xfrm>
            <a:off x="6095880" y="4572000"/>
            <a:ext cx="2971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193"/>
                </a:solidFill>
                <a:latin typeface="Calisto MT"/>
              </a:rPr>
              <a:t>Human Impact on the Earth</a:t>
            </a:r>
            <a:endParaRPr b="0" lang="en-US" sz="4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roughout this unit, we will focus on this question of how human activity affects the environment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We will primarily focus on energy usage and how it contributes to climate change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sto MT"/>
              </a:rPr>
              <a:t>The big question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: </a:t>
            </a:r>
            <a:r>
              <a:rPr b="1" i="1" lang="en-US" sz="2200" spc="-1" strike="noStrike">
                <a:solidFill>
                  <a:srgbClr val="595959"/>
                </a:solidFill>
                <a:latin typeface="Calisto MT"/>
              </a:rPr>
              <a:t>How can we lessen our impact on the environment so we can indefinitely sustain life on planet Earth?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193"/>
                </a:solidFill>
                <a:latin typeface="Calisto MT"/>
              </a:rPr>
              <a:t>Global Warming 101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following video from National Geographic briefly introduces the scientific phenomenon of “global warming” and provides data supporting the idea that human activity is a major contributor to it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2120" indent="-31212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Disastrous consequences if we do not change our way of lif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2120" indent="-31212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Unit study guide/outlin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2120" indent="-31212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b0f0"/>
                </a:solidFill>
                <a:uFillTx/>
                <a:latin typeface="Calisto MT"/>
                <a:hlinkClick r:id="rId2"/>
              </a:rPr>
              <a:t>Click here for video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2:05:33Z</dcterms:created>
  <dc:creator>WASD</dc:creator>
  <dc:description/>
  <dc:language>en-US</dc:language>
  <cp:lastModifiedBy>WASD</cp:lastModifiedBy>
  <dcterms:modified xsi:type="dcterms:W3CDTF">2009-02-11T14:45:54Z</dcterms:modified>
  <cp:revision>9</cp:revision>
  <dc:subject/>
  <dc:title>Earth Week 2009</dc:title>
</cp:coreProperties>
</file>